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AE1-F958-4FDD-89F3-DF0B0C90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1F7-427B-4130-AC78-619E45C3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1B7-1B63-4AE8-B5F8-C03325B5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540-7165-47C6-BE39-D698A223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D99-503C-4084-9532-9D8EF478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8E4-BDFD-41C2-8B88-A228DA38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492-F5A7-4934-B185-9923E911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53E-F44A-43AC-982B-C505C98D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57CD-EB2D-4376-B98C-9DCB33B3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2302-E879-4EE7-88A7-B628B43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DB3-DA36-48D5-AF0B-26F3FB28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EB6D-96F0-4600-977A-58E18C37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AE13-7D18-4EE4-BF99-BB910BB44733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8T06:45:27Z</dcterms:modified>
  <cp:revision>173</cp:revision>
  <dc:subject/>
  <dc:title>PowerPoint</dc:title>
</cp:coreProperties>
</file>